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F92-886F-445C-91B8-D3E8AAB1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D5B-F2CA-4AA8-B95B-E112A7E1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544-EE69-4B49-B136-7E23D4E1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36C-7C6F-46CD-9899-45EECC4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AD6-96A9-442C-8760-6AA80417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A96-D5C1-466A-92E4-6A09329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892-CF0D-4CA0-AC00-89EE6C2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C77-BBF3-4B8A-965F-1048CF9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830-5A83-46BF-A51F-131AAFFC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5AF-604E-4228-BDC1-BBC7CAF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A1C-F724-4999-AC0E-602C9D8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C61-4015-4F40-9AD1-408D685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DEC-CF9D-4D11-8822-FEB5D714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Wolves-Humans.j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Montana-Wildlife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Montana-Wildlife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ing Trunks-Kindergarten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ory Board and Student Act.1-geared towards the Classroom and Natural Resources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y Esther Smith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T-7465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 4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way, teachers lead students in learning about habitat, body structure, food, range, distinguishing characteristics, tracks, skills of a field biologist, and phenology as it relates to Montana wildlife. Lessons are geared primaril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th/5th g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rning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guide aims to be place-based and to keep learning going long after the trunk is returned through access to a wildlife monito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TEACHER would say!, now lets see the next Activity-2- The Greenstalk’s-A Farm Fami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e Discovery Traveling Trunks-An Environment Educational resource for Stud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http://www.montananaturalist.org/wp-content/uploads/2008/06/dscn0512.jpg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raveling educational trunks help make natural history come alive for your classroom. Each trunk is filled with interdisciplinary and scientifically-accurate educational materials such as grizzly hides, wolf skulls, age-appropriate lesson plans, posters, videos, audio cassettes, games and pupp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y Board and 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LVES AND HUMA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http://www.montananaturalist.org/wp-content/uploads/2008/05/Wolves-Humans-300x2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8458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d in the trunk is a curriculum guide, hides, fur samples, skulls, plaster casts, videos, and cassette t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se are  the Environmenta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ucationa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ooks-SONGBIRD BLUE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scn28073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students appreciate songbirds and learn how to help insure that their songs always herald spring in the Rock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ATENED AND ENDANGER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://www.montananaturalist.org/wp-content/uploads/2008/05/Montana-Wildlife-300x17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7315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trunk you will find hid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mens, books, posters, videos, plaster tracks, and a curriculum guid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!!!  WILDLIFE TRU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montananaturalist.org/wp-content/uploads/2008/05/Montana-Wildlife-300x17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534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runk and curriculum offer a study of some of the amazing wildlife in Western Montana. Students become wildlife biologists to complete a creative research project about mammals of Western Montana. Students link directly to learn about real wildlife being monitored on a continual basis in the mounta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2:10:47Z</dcterms:created>
  <dc:creator>CIT</dc:creator>
  <dc:description/>
  <dc:language>en-US</dc:language>
  <cp:lastModifiedBy>CIT</cp:lastModifiedBy>
  <dcterms:modified xsi:type="dcterms:W3CDTF">2012-04-05T03:12:50Z</dcterms:modified>
  <cp:revision>3</cp:revision>
  <dc:subject/>
  <dc:title>Nature Discovery Traveling Trunks </dc:title>
</cp:coreProperties>
</file>